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A008-2808-4B8B-A310-7AA3789E33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E6094-1994-4024-BAF0-0A53DF99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D4DC4A-9944-4E52-BFDB-91F0D27E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DC4E56-C117-4209-86E5-8A50ED27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3F65F5-431E-4D1D-9425-4903ACD4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450DC6-BCC8-4492-9087-7A390F57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56B3E9-70B2-4103-A4BF-D3A89251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7AF43C-6A87-478E-A0B9-AC4FAF88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8EAAB8-4184-42A2-A30C-53354AAE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EF4D3F-D982-4BE0-8444-E6E4854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680550-BE03-46D3-88F9-D7009ED49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ADE78-DD49-4A40-A882-BC6B7FDD3B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E68E-C92C-48AC-A4AB-82562F65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6B1D-C143-4B4C-B92A-0C88997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04CED-A18E-4CB8-A737-1FF814F4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53BC6-6E27-42FA-8A72-ADDFAA30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924C9-84A9-4C23-8693-8CBE151D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B20E7-6088-489D-8F5D-99FFD89A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2C5EC-4CC9-46FF-83B5-16AAD2F6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41B6E-0E98-46BD-A70B-3A741252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EA2BF-70DC-4D82-8635-458EBE1D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10829-3303-4F1E-B9F3-E63A641B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D44D3-4DBE-486A-9081-DD8F91C9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C208-1D1A-4EB8-A173-E34E12C39A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43E8D-ED18-4F64-8F40-0986512EA0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2921B7-DB2A-47D9-AB42-20AF763D75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D8A54-B00F-4372-837A-C256950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69D128-CA21-4DAB-9290-B75E94B7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431247-3E36-4C22-AC60-67C70FDE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3D26F1-1357-45CE-AD69-8B267EC9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35A076-377E-4D98-B081-9E0A419D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3F9FE6-CD4C-48E7-8A7B-50C07DA7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77706A-6EAD-4379-8D58-8ADBDA47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BC8217-7232-4745-B8D7-34EE30BF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6E08C-4F29-4250-B848-F56E675C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B69A8E-A980-44CB-A20C-CE56E4D0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E08E2D-5F15-4C9E-8C81-93A906BC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CB34F8-A04A-43E6-BE9E-3B2C5AA81C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8FBCA-05EF-41D1-8473-FAA22D6E8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5F447-BA41-442B-A555-C7ADE20E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DA588-D543-4F6E-8C39-5A633E1E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60232-E0D4-4514-9A85-AEE8640E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E6022-0C5E-4D03-BE17-9E5FFFE6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09A2E4-8C4D-4642-9F60-8FFA27F4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4BFE5-A022-431C-ADEB-8E1BF24C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0BAF6-9F8F-4BDA-9C30-0C77CD21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624AA-5AE1-49E0-9596-71D773F9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28BCA-162D-4A54-8C94-F8557B94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4C338-5CE2-469E-907E-E57D0782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50370-2E18-485C-A7AC-2AA4CAAD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F654D-27B7-48EA-8236-B6A0BD056E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EEB26-B778-4CB9-ABEB-468BA10B3C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967E9-170F-4B7B-A11C-8A087DC2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AEFD5-0144-47AB-9F9E-397E670E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BB140-BA08-4E50-B666-7685A426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0CEE1-A811-486F-8BF6-B3796253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63605-6027-49E7-9230-2B316500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9EE1C-2A22-4978-BBF8-329D2E66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CCE93-B58D-4C88-803C-C6FE9789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6B342-0009-430E-B08C-388D0B1E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B8F08-860C-45D4-A67F-DFBDDABA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E52F1-034B-4804-8B08-09473FE6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F329F-9A3E-4053-B413-B36720FF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D875A-170B-4691-9D11-60ABD30D1D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8ABE7-82FD-4637-922D-57D9EB43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42C5F-7319-4F5D-8536-41E68FFB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2B7E5-BFE2-4C20-B35F-49C034FB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D78B1-6613-4E55-BC79-87C0EE55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B8EE4-E113-4880-9F06-384691BA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F9011-F641-4304-8BAC-4DC1CB68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D0212-A0EC-407F-91A6-43C1EDD1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16A84-86DB-4276-8657-1F49F9CD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A4449-EBEA-4FD3-A18C-5CDA9EAC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187B2-81A7-4952-951B-41A4456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E9838-49E5-467A-A77E-556BB053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32B04-D6D0-4235-8EEE-B538016C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52EF8-7F5F-43CC-956E-0F55C917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109AE-8C93-41AB-BC44-967A7E8F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582BE-5446-4F33-B933-93165D5F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BA769-F647-40EB-912C-03782219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21756-93E7-49AB-9801-0E22B065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D98B0-A668-4A93-8F13-1C450BE7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21237-ACCB-4745-B278-A9F0A972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26374-49E1-450B-BB76-9C0EB104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0435A-713F-4FB7-9C1D-ABC60A9F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32C19-0764-4C81-AC83-85C5FBE2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93C5B-49DE-463B-B172-FE7B07B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0FF2D-DA7B-49AE-812F-8C797B8A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53844-C10A-428E-9D8C-58B3B6AF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8E956-CB5F-49C1-987E-EB803A11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63587-A395-42EF-BDD5-441FBDDA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32D6B-C2DD-4AFF-B3F4-EBEB68A5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7263B-4EB1-4C62-8CF2-A824FD76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2DC50-7F21-491F-8AA0-97AAF2D7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CC353-3A7E-4E9D-AC53-7BC87857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5CFE2-E878-4ABB-AC17-4C93BE31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F4B7D-9090-477E-8454-72F7CB12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AE3C0-D17B-4EF9-95DB-8BFF3A5C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26D86-6496-4455-BA36-1DEDBD9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50119-AE89-4551-8B6C-6898868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25C77-4DA4-4C07-A96C-40F0B712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6B644-1DBE-4719-B8C4-3CE24D70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EE08D-9E82-45CF-90CE-ABE0BEF0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C5C76-21D5-4B53-8C88-BE20E135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16F2E-7696-4B87-8BF5-3E81150F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F47E6-173D-462D-8CBF-9EB1F87C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78DA3-6E94-4883-AA27-3A2020F0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A2721-7BD3-47D1-9813-3EE9C89D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13336-6589-4ACD-8868-D7E732C1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BA1D8-29B7-40A9-910C-0F4C0B7D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E8200-1CFB-46AC-9C20-E45CF126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D0E8-C13B-4DA0-AA43-8E48FE06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E0553-62DF-4491-A926-0A2D849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AEA7A-B946-4929-9C06-584BADEB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97EF7-092E-40D9-ADF8-E0777114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1EF91-992E-4CEA-BBAC-B953FF21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251D2-AB48-40C5-9AF7-ACB974DF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5BBD8-3221-4E02-9A80-D8190514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E6359-0911-4921-B5D1-8BE4B433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78761-BAED-4DE4-B5B9-DB105339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FFCAD-E0F9-4408-98C3-BB9687BA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AF5CDD-383E-4CC2-9867-8B2C65A5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3036E-A387-40A2-ADD2-43713B1A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F7F6A-3D79-4D43-A69F-8870F69F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701FC-03F9-408F-9AE7-4884C576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33EFD-95F5-4573-96C5-D2B8C177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33AE4-FB3D-497D-8F57-E75DF73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69A3C-9252-475C-AD12-002E56AD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AA4BB-9812-42D7-892B-2488CF16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00638-48CA-43AE-8B45-30B3907F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BAEDF-2095-4D05-80DC-F664D030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62914-DB75-4CC4-AC60-061B9B23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9F1E0-F610-40C5-AC12-49590608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D62D3-511C-4909-85BF-3F05F720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ED0DE-118A-4CBD-84CB-3503BF06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DC5FC-0D65-4FB6-A0C4-45718EC2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636E2-0448-455C-BF1D-385E1B8B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15C0E-7F12-4083-A438-4B1EF4EB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856BF-3BE5-4D7B-A134-659BEA35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99A7FE-AB65-43E9-9F37-763EBE35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1EC71-807A-459E-937F-7BDF7448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36CFC-3479-43C4-B87E-D1C41120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3F935-6B2C-4F15-A01D-AA055903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31302-4E57-458F-A5AC-ED20CC49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2A817-5EEA-432B-AD1B-A68691DC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02C92-E2B4-48AE-A409-E1C684DA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A09DC-8BF6-44E4-8150-81E3E80D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169D9-5DAE-44A6-A64E-DAAA863E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247B5-6ED1-45F9-8E62-B02FF192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0D02D7-DCC9-4649-A81D-F12C609F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5DD64-1AF6-4B14-A09D-D2F1E410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90CBD-6B6D-4600-81CB-70726E10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92CBC-214F-407D-B1FD-DEDE9CEF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62AB9-8993-45F4-B176-95745FA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5288F-B8DA-4773-9DB6-6C27D7BD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0455A-8E40-44A8-9DCC-1A5EFCD5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A7F23-12DC-4DDA-A8E8-ECE991D5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9EC08-86E8-4F65-829E-C96893F0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BC314-C5C0-473D-B9ED-A3270A9B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514F5-F434-4435-A033-45E3C65C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C3565-406B-4616-AB8E-45492811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6B336-088C-41B4-99BD-5A783FE7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D0D6E4-E1FC-4C99-B4DD-5FC176C3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305D57-0BBF-40F2-8EC8-DF2C9990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E221C-A57B-40D8-BF9F-84EB25E0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38ABF-BAB2-42DC-BD97-6B4273D3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4DCFF9-E6E9-480D-AC07-672162D6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F7FA2-474B-4F5F-95A9-DC70A805A9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DACA3A-8E4E-4A6D-AAF3-36394E89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595726-5435-4A52-A0DF-2249AB78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98E54-852B-4327-9F52-D370D0FF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C86494-A027-40FF-AE26-11307677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340FD-0451-4C57-8BE6-85C06566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7AD77B-3C8F-4258-8CC7-FC7A848C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3AA7E0-A55A-44A1-80C4-24DEAF5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0E82CA-D4EE-4F37-931F-B4ABE338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B117A-5CA0-48B1-97A2-1E64E2E3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B3B641-9F1C-48DF-B353-BF65824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4675D-7345-4F52-83B4-F21B3007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36488-9A0C-4F05-A16B-FB733517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EF73A-1F14-4B01-9523-C7136F5E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44309-EF90-4FE8-89A9-5D933008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E9F526-66BF-43B8-91B6-B864F50A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F66FA-750E-4777-9159-36E5A32C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F0B407-0CF0-4948-A760-FD84275C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5E69C4-FDA0-4806-AA95-9DE91E11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1F433E-AE25-4FD9-9021-217648D4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FD16D-06F6-4881-B436-0E39A12C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EF55D-BBF5-4F20-82C5-6561277C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C5BF5-6AA7-4762-B730-D1831FC5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5AF960-1D97-4E4B-A6AF-6C41F0B2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9A186C-DCDC-4F9A-8D2C-978E7302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3ECBCE-22F9-417B-93D7-DF5F70A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F6300D-D215-4EED-9794-AA994C99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965AF-ED3B-4C9D-8795-0502C575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113EA8-3DF2-494A-ADA1-6885874E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D5159-8801-4683-A67C-9758763E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B30642-3F02-4BD7-B5B0-149184BB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8A54A-7A21-4470-B040-4C6E33C4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7E1167-F002-48C5-82FD-E558967A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EA20A2-E55B-418F-A412-4359E903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BDDC6E-C3DA-4A4C-BB78-4096458B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923F6-43D3-4EBE-BB77-DD8C7915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BDC8E3-858C-4467-8E99-E18CCB32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F86D9C-A9E1-40FD-A04B-E8DBAC72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F39EC-0436-41A5-AF12-97A26669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875D6-AAEC-4BB6-B057-A32FD5A9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63EB86-9512-4515-B692-40D89DFA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45E8BB-6C6A-42AF-B5A3-B3CB9899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AA46BA-83A8-4D22-BE05-2B12FDDC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FED04-23E8-4623-B2B6-D3FFB8AC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8859C-BAEB-4DCA-8144-AC367674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37FA9-5105-4BAF-9CBE-8CFD93B5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5FBFAE-E41F-4D02-85C8-F88C1064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8FA924-BDCE-429A-846C-E6E933A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85EFC6-CC07-404A-8F09-2FA1C2FF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741286-79BB-4A32-B2B7-3948C26D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FCE84E-0D32-4C3C-8AB5-7804E5D6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885C83-F222-40E3-A96C-AA5739E366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5ACFB-C247-4BF4-AEC8-0DBB0A5F61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926F-59C4-4F04-BFEA-D7934BE0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AE8C-B7DA-4AA2-8F8B-5D64D432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10C6-45E7-4FD6-8CC0-22F69ACA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5C73-3137-4B09-932D-66E310B2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D7FF-1695-4B06-BB81-9DFE60DD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5BB5-7EFA-419F-867B-17DE1083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2125-6117-4D18-8D39-81326710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09FC-1643-492C-BCC6-50BB4DB0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493A0-4E4E-41CA-841D-38BF2F77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E325-9B21-4B83-A0ED-3874D176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249B-C5E3-432C-B936-277AA208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B4FDB-DDA6-4CA2-8072-0857BA7276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2F9C6-D732-47AE-B8D8-A79F63D735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FE5B-5322-4BEE-84FF-03C13538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C8193-96D6-49F1-9D57-2865E197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68406-720F-49D9-94CE-F5DFEA0F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801AD-360F-40C1-972E-06875425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6556A-671A-44AB-BE1E-CBA27FEB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BD1EB-44A7-4EDB-A8A0-8BE51FCF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963F1-F1F9-4387-9AE4-85FE8576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9BA21-F6B9-43A8-AA52-367011DF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5F065-C92D-465F-B018-62A06E73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FC2FE1-3A98-49B7-A268-1A73BABE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54E052-6805-44D0-B931-1674ED7A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0AE7-D4A0-45FB-A3F5-19B99F7D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217D2-773B-43D7-98AF-A2FE041017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98CE5-615F-40C8-B299-7185DEABAB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A4A68F-28F5-4AA6-8884-D3172641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F23C9F-5AB5-42B4-BD98-5D95AEEF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348FA0-74DF-4291-90FC-391A9764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8653AD-F9BB-4622-A0FA-E05E1EC7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4B2104-9499-49C3-9BD8-DF0F6745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0F71D6-EA4A-45F9-8C8F-12B7FC02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5CF8A5-C711-434E-934C-A2533688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71D4C6-D288-4615-9CB7-3989E5B1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50D2-7118-4D23-AC61-B3121A39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0C13A3-B0F1-46DF-8FEA-6AF45F43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D12CF4-0ECA-462F-B0A1-87A67B33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80AD1-E74D-4156-AF00-F1C0AF8E0F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DF28-0A5F-4E7F-BA2C-7E9BDA5F5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EF7C-64BE-4E1B-A853-0116CAF3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FABE4-8A3D-4D69-A7AE-CD014F99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9E343-905A-4246-8996-0BC97D0A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FEDD4-48D9-4F64-8164-66C4A3F4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9DF3B-2DA6-4094-A924-77BB21AB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CC82D-5D19-4CE4-89D5-4D1434CC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E9C5E-AA1F-424D-A658-87C3F114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20E97-0931-4560-9B14-E49B1D60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8277D-DE6E-4015-BDC3-1380D8CC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B266D-FE62-4CBF-B3D3-BAF65F02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D3B6B-16C3-42D0-AAC3-7C7AAA2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B3A65-552C-4348-84A9-0B23780462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8176F-28D5-4185-994B-9595A0533A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43514-604B-4CF2-AFF8-A5D9D587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C605C-B408-46AE-9F73-D1BC1F78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A0F31-48D9-467F-9F41-483EB6E3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A9BD8-45BA-4691-A893-FE3AEBA9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B460-4A89-4BE1-A755-627D2A2A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48111A-8420-4373-9F1E-EEA37EDC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0197B-A8FD-4A78-9833-08B81D37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00AFA-2CF4-49AF-8712-392BBD5D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E9F25-A64E-43C5-8B28-682CBCD3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42D0D-140C-4358-8271-BFC166F2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132640-1E4C-4D14-B708-63E07148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2BD5C-8DEE-4DA2-B696-82F945A7CA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CF9B78-F46F-45EF-BF3D-656545871A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4B4B09-1761-4027-9120-CDFBE568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DB6A8A-F673-42B6-9CED-D4B95B33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E29F-879C-4E37-8BEB-BC0CF9AEAF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4973-3EDD-44B5-B29E-0A20AEBCD2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95DF-D4F1-43A2-8F24-0FF2345062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8A39-774A-4B6F-90DD-0DFE3F98A1E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95DB-14B4-4E29-8583-045396BA01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0002-F937-4F2B-B800-2CDEE2FA9CB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8DCE-2F53-4058-A420-3DFEE393039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DABD-1DEF-4395-985C-D1ED42CB6B3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D9B6-642F-45C1-9F5B-D9398C46051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0643-3C88-4FD6-9744-FEFF68953E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6F33-F586-4270-8C96-28B3C7348C5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0289-4017-474A-8DCE-9FF585D2958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237D-C30D-47D4-83DD-CD276F51E4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3788-FE7D-403F-86A5-124E15BDB67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22B9-3D59-4038-8620-F095B2E9DC0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F671-C08D-45A7-ADF8-98BD4340B08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8957-26B2-442D-AB8A-BA0D21B8C2E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9BBB-F096-4C5F-B516-7E2919DEA3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4370-F20C-4AA2-B860-44C58B9D08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ED92-0D6B-4973-BC39-7C008A685D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E0EA-F001-4E8D-A897-DA92ACADC5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671B-BE4F-49C5-9646-8E6555B8BDA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2090-0C7C-419D-A1A8-C49D80A809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5C03-5FA2-4C57-AB0D-A3D9EF5730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892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816200"/>
            <a:ext cx="91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3"/>
          <p:cNvSpPr/>
          <p:nvPr/>
        </p:nvSpPr>
        <p:spPr>
          <a:xfrm>
            <a:off x="414360" y="816120"/>
            <a:ext cx="20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组合 49"/>
          <p:cNvGrpSpPr/>
          <p:nvPr/>
        </p:nvGrpSpPr>
        <p:grpSpPr>
          <a:xfrm>
            <a:off x="576360" y="1346040"/>
            <a:ext cx="8156520" cy="2596680"/>
            <a:chOff x="576360" y="1346040"/>
            <a:chExt cx="8156520" cy="2596680"/>
          </a:xfrm>
        </p:grpSpPr>
        <p:sp>
          <p:nvSpPr>
            <p:cNvPr id="1000" name="文本框 6"/>
            <p:cNvSpPr/>
            <p:nvPr/>
          </p:nvSpPr>
          <p:spPr>
            <a:xfrm>
              <a:off x="576360" y="134604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5+28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文本框 7"/>
            <p:cNvSpPr/>
            <p:nvPr/>
          </p:nvSpPr>
          <p:spPr>
            <a:xfrm>
              <a:off x="2664360" y="13464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+56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文本框 8"/>
            <p:cNvSpPr/>
            <p:nvPr/>
          </p:nvSpPr>
          <p:spPr>
            <a:xfrm>
              <a:off x="4753080" y="134712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8+29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文本框 9"/>
            <p:cNvSpPr/>
            <p:nvPr/>
          </p:nvSpPr>
          <p:spPr>
            <a:xfrm>
              <a:off x="6841440" y="134784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5+36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文本框 10"/>
            <p:cNvSpPr/>
            <p:nvPr/>
          </p:nvSpPr>
          <p:spPr>
            <a:xfrm>
              <a:off x="57636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2+29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12"/>
            <p:cNvSpPr/>
            <p:nvPr/>
          </p:nvSpPr>
          <p:spPr>
            <a:xfrm>
              <a:off x="266436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+25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文本框 14"/>
            <p:cNvSpPr/>
            <p:nvPr/>
          </p:nvSpPr>
          <p:spPr>
            <a:xfrm>
              <a:off x="475308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6+26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文本框 15"/>
            <p:cNvSpPr/>
            <p:nvPr/>
          </p:nvSpPr>
          <p:spPr>
            <a:xfrm>
              <a:off x="684144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9+28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组合 18"/>
          <p:cNvGrpSpPr/>
          <p:nvPr/>
        </p:nvGrpSpPr>
        <p:grpSpPr>
          <a:xfrm>
            <a:off x="620640" y="1835280"/>
            <a:ext cx="919080" cy="1191240"/>
            <a:chOff x="620640" y="1835280"/>
            <a:chExt cx="919080" cy="1191240"/>
          </a:xfrm>
        </p:grpSpPr>
        <p:sp>
          <p:nvSpPr>
            <p:cNvPr id="1009" name="文本框 16"/>
            <p:cNvSpPr/>
            <p:nvPr/>
          </p:nvSpPr>
          <p:spPr>
            <a:xfrm>
              <a:off x="62064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直接连接符 17"/>
            <p:cNvSpPr/>
            <p:nvPr/>
          </p:nvSpPr>
          <p:spPr>
            <a:xfrm>
              <a:off x="700560" y="256320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组合 19"/>
          <p:cNvGrpSpPr/>
          <p:nvPr/>
        </p:nvGrpSpPr>
        <p:grpSpPr>
          <a:xfrm>
            <a:off x="2735280" y="1835280"/>
            <a:ext cx="919080" cy="1191240"/>
            <a:chOff x="2735280" y="1835280"/>
            <a:chExt cx="919080" cy="1191240"/>
          </a:xfrm>
        </p:grpSpPr>
        <p:sp>
          <p:nvSpPr>
            <p:cNvPr id="1012" name="文本框 20"/>
            <p:cNvSpPr/>
            <p:nvPr/>
          </p:nvSpPr>
          <p:spPr>
            <a:xfrm>
              <a:off x="273528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5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直接连接符 21"/>
            <p:cNvSpPr/>
            <p:nvPr/>
          </p:nvSpPr>
          <p:spPr>
            <a:xfrm>
              <a:off x="2815200" y="256320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22"/>
          <p:cNvGrpSpPr/>
          <p:nvPr/>
        </p:nvGrpSpPr>
        <p:grpSpPr>
          <a:xfrm>
            <a:off x="4848120" y="1835280"/>
            <a:ext cx="919440" cy="1191240"/>
            <a:chOff x="4848120" y="1835280"/>
            <a:chExt cx="919440" cy="1191240"/>
          </a:xfrm>
        </p:grpSpPr>
        <p:sp>
          <p:nvSpPr>
            <p:cNvPr id="1015" name="文本框 23"/>
            <p:cNvSpPr/>
            <p:nvPr/>
          </p:nvSpPr>
          <p:spPr>
            <a:xfrm>
              <a:off x="4848120" y="1835280"/>
              <a:ext cx="91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直接连接符 24"/>
            <p:cNvSpPr/>
            <p:nvPr/>
          </p:nvSpPr>
          <p:spPr>
            <a:xfrm>
              <a:off x="4928040" y="256320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25"/>
          <p:cNvGrpSpPr/>
          <p:nvPr/>
        </p:nvGrpSpPr>
        <p:grpSpPr>
          <a:xfrm>
            <a:off x="6962760" y="1835280"/>
            <a:ext cx="919080" cy="1191240"/>
            <a:chOff x="6962760" y="1835280"/>
            <a:chExt cx="919080" cy="1191240"/>
          </a:xfrm>
        </p:grpSpPr>
        <p:sp>
          <p:nvSpPr>
            <p:cNvPr id="1018" name="文本框 26"/>
            <p:cNvSpPr/>
            <p:nvPr/>
          </p:nvSpPr>
          <p:spPr>
            <a:xfrm>
              <a:off x="696276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3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直接连接符 27"/>
            <p:cNvSpPr/>
            <p:nvPr/>
          </p:nvSpPr>
          <p:spPr>
            <a:xfrm>
              <a:off x="7042680" y="256320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28"/>
          <p:cNvGrpSpPr/>
          <p:nvPr/>
        </p:nvGrpSpPr>
        <p:grpSpPr>
          <a:xfrm>
            <a:off x="612720" y="4089240"/>
            <a:ext cx="919080" cy="1191240"/>
            <a:chOff x="612720" y="4089240"/>
            <a:chExt cx="919080" cy="1191240"/>
          </a:xfrm>
        </p:grpSpPr>
        <p:sp>
          <p:nvSpPr>
            <p:cNvPr id="1021" name="文本框 35"/>
            <p:cNvSpPr/>
            <p:nvPr/>
          </p:nvSpPr>
          <p:spPr>
            <a:xfrm>
              <a:off x="612720" y="408924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直接连接符 36"/>
            <p:cNvSpPr/>
            <p:nvPr/>
          </p:nvSpPr>
          <p:spPr>
            <a:xfrm>
              <a:off x="692640" y="481824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组合 40"/>
          <p:cNvGrpSpPr/>
          <p:nvPr/>
        </p:nvGrpSpPr>
        <p:grpSpPr>
          <a:xfrm>
            <a:off x="2735280" y="4098960"/>
            <a:ext cx="919080" cy="1191240"/>
            <a:chOff x="2735280" y="4098960"/>
            <a:chExt cx="919080" cy="1191240"/>
          </a:xfrm>
        </p:grpSpPr>
        <p:sp>
          <p:nvSpPr>
            <p:cNvPr id="1024" name="文本框 41"/>
            <p:cNvSpPr/>
            <p:nvPr/>
          </p:nvSpPr>
          <p:spPr>
            <a:xfrm>
              <a:off x="2735280" y="409896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42"/>
            <p:cNvSpPr/>
            <p:nvPr/>
          </p:nvSpPr>
          <p:spPr>
            <a:xfrm>
              <a:off x="2815200" y="482688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43"/>
          <p:cNvGrpSpPr/>
          <p:nvPr/>
        </p:nvGrpSpPr>
        <p:grpSpPr>
          <a:xfrm>
            <a:off x="4848120" y="4098960"/>
            <a:ext cx="919440" cy="1191240"/>
            <a:chOff x="4848120" y="4098960"/>
            <a:chExt cx="919440" cy="1191240"/>
          </a:xfrm>
        </p:grpSpPr>
        <p:sp>
          <p:nvSpPr>
            <p:cNvPr id="1027" name="文本框 44"/>
            <p:cNvSpPr/>
            <p:nvPr/>
          </p:nvSpPr>
          <p:spPr>
            <a:xfrm>
              <a:off x="4848120" y="4098960"/>
              <a:ext cx="91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45"/>
            <p:cNvSpPr/>
            <p:nvPr/>
          </p:nvSpPr>
          <p:spPr>
            <a:xfrm>
              <a:off x="4928040" y="482688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组合 46"/>
          <p:cNvGrpSpPr/>
          <p:nvPr/>
        </p:nvGrpSpPr>
        <p:grpSpPr>
          <a:xfrm>
            <a:off x="6962760" y="4098960"/>
            <a:ext cx="919080" cy="1191240"/>
            <a:chOff x="6962760" y="4098960"/>
            <a:chExt cx="919080" cy="1191240"/>
          </a:xfrm>
        </p:grpSpPr>
        <p:sp>
          <p:nvSpPr>
            <p:cNvPr id="1030" name="文本框 47"/>
            <p:cNvSpPr/>
            <p:nvPr/>
          </p:nvSpPr>
          <p:spPr>
            <a:xfrm>
              <a:off x="6962760" y="409896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2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直接连接符 48"/>
            <p:cNvSpPr/>
            <p:nvPr/>
          </p:nvSpPr>
          <p:spPr>
            <a:xfrm>
              <a:off x="7042680" y="482688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文本框 50"/>
          <p:cNvSpPr/>
          <p:nvPr/>
        </p:nvSpPr>
        <p:spPr>
          <a:xfrm>
            <a:off x="1690560" y="133668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文本框 51"/>
          <p:cNvSpPr/>
          <p:nvPr/>
        </p:nvSpPr>
        <p:spPr>
          <a:xfrm>
            <a:off x="3762360" y="1343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52"/>
          <p:cNvSpPr/>
          <p:nvPr/>
        </p:nvSpPr>
        <p:spPr>
          <a:xfrm>
            <a:off x="5842080" y="1341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文本框 53"/>
          <p:cNvSpPr/>
          <p:nvPr/>
        </p:nvSpPr>
        <p:spPr>
          <a:xfrm>
            <a:off x="7940520" y="133992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文本框 54"/>
          <p:cNvSpPr/>
          <p:nvPr/>
        </p:nvSpPr>
        <p:spPr>
          <a:xfrm>
            <a:off x="1673280" y="348300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文本框 55"/>
          <p:cNvSpPr/>
          <p:nvPr/>
        </p:nvSpPr>
        <p:spPr>
          <a:xfrm>
            <a:off x="3760920" y="34862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文本框 56"/>
          <p:cNvSpPr/>
          <p:nvPr/>
        </p:nvSpPr>
        <p:spPr>
          <a:xfrm>
            <a:off x="5843520" y="34765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57"/>
          <p:cNvSpPr/>
          <p:nvPr/>
        </p:nvSpPr>
        <p:spPr>
          <a:xfrm>
            <a:off x="7931160" y="34862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组合 20"/>
          <p:cNvGrpSpPr/>
          <p:nvPr/>
        </p:nvGrpSpPr>
        <p:grpSpPr>
          <a:xfrm>
            <a:off x="361800" y="876240"/>
            <a:ext cx="8247960" cy="2188080"/>
            <a:chOff x="361800" y="876240"/>
            <a:chExt cx="8247960" cy="2188080"/>
          </a:xfrm>
        </p:grpSpPr>
        <p:grpSp>
          <p:nvGrpSpPr>
            <p:cNvPr id="1041" name="组合 4"/>
            <p:cNvGrpSpPr/>
            <p:nvPr/>
          </p:nvGrpSpPr>
          <p:grpSpPr>
            <a:xfrm>
              <a:off x="361800" y="876240"/>
              <a:ext cx="3850200" cy="459720"/>
              <a:chOff x="361800" y="876240"/>
              <a:chExt cx="3850200" cy="459720"/>
            </a:xfrm>
          </p:grpSpPr>
          <p:sp>
            <p:nvSpPr>
              <p:cNvPr id="1042" name="文本框 2"/>
              <p:cNvSpPr/>
              <p:nvPr/>
            </p:nvSpPr>
            <p:spPr>
              <a:xfrm>
                <a:off x="361800" y="876240"/>
                <a:ext cx="385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在      里填上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＞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“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或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”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椭圆 3"/>
              <p:cNvSpPr/>
              <p:nvPr/>
            </p:nvSpPr>
            <p:spPr>
              <a:xfrm>
                <a:off x="812520" y="885600"/>
                <a:ext cx="432360" cy="432000"/>
              </a:xfrm>
              <a:prstGeom prst="ellipse">
                <a:avLst/>
              </a:prstGeom>
              <a:noFill/>
              <a:ln w="12600">
                <a:solidFill>
                  <a:srgbClr val="9595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组合 12"/>
            <p:cNvGrpSpPr/>
            <p:nvPr/>
          </p:nvGrpSpPr>
          <p:grpSpPr>
            <a:xfrm>
              <a:off x="607320" y="1696320"/>
              <a:ext cx="8002440" cy="1368000"/>
              <a:chOff x="607320" y="1696320"/>
              <a:chExt cx="8002440" cy="1368000"/>
            </a:xfrm>
          </p:grpSpPr>
          <p:sp>
            <p:nvSpPr>
              <p:cNvPr id="1045" name="文本框 5"/>
              <p:cNvSpPr/>
              <p:nvPr/>
            </p:nvSpPr>
            <p:spPr>
              <a:xfrm>
                <a:off x="607320" y="169632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+16      3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文本框 6"/>
              <p:cNvSpPr/>
              <p:nvPr/>
            </p:nvSpPr>
            <p:spPr>
              <a:xfrm>
                <a:off x="3389040" y="169632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2+28      6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文本框 7"/>
              <p:cNvSpPr/>
              <p:nvPr/>
            </p:nvSpPr>
            <p:spPr>
              <a:xfrm>
                <a:off x="6170760" y="169632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4+18      5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文本框 8"/>
              <p:cNvSpPr/>
              <p:nvPr/>
            </p:nvSpPr>
            <p:spPr>
              <a:xfrm>
                <a:off x="61344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6+15      57+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文本框 9"/>
              <p:cNvSpPr/>
              <p:nvPr/>
            </p:nvSpPr>
            <p:spPr>
              <a:xfrm>
                <a:off x="339516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3+17      73+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文本框 10"/>
              <p:cNvSpPr/>
              <p:nvPr/>
            </p:nvSpPr>
            <p:spPr>
              <a:xfrm>
                <a:off x="617688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+27      56+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1" name="椭圆 14"/>
            <p:cNvSpPr/>
            <p:nvPr/>
          </p:nvSpPr>
          <p:spPr>
            <a:xfrm>
              <a:off x="158544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椭圆 15"/>
            <p:cNvSpPr/>
            <p:nvPr/>
          </p:nvSpPr>
          <p:spPr>
            <a:xfrm>
              <a:off x="437040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椭圆 16"/>
            <p:cNvSpPr/>
            <p:nvPr/>
          </p:nvSpPr>
          <p:spPr>
            <a:xfrm>
              <a:off x="715212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椭圆 17"/>
            <p:cNvSpPr/>
            <p:nvPr/>
          </p:nvSpPr>
          <p:spPr>
            <a:xfrm>
              <a:off x="159156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椭圆 18"/>
            <p:cNvSpPr/>
            <p:nvPr/>
          </p:nvSpPr>
          <p:spPr>
            <a:xfrm>
              <a:off x="437652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椭圆 19"/>
            <p:cNvSpPr/>
            <p:nvPr/>
          </p:nvSpPr>
          <p:spPr>
            <a:xfrm>
              <a:off x="715824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文本框 21"/>
          <p:cNvSpPr/>
          <p:nvPr/>
        </p:nvSpPr>
        <p:spPr>
          <a:xfrm>
            <a:off x="1538280" y="16509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22"/>
          <p:cNvSpPr/>
          <p:nvPr/>
        </p:nvSpPr>
        <p:spPr>
          <a:xfrm>
            <a:off x="4335480" y="16509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23"/>
          <p:cNvSpPr/>
          <p:nvPr/>
        </p:nvSpPr>
        <p:spPr>
          <a:xfrm>
            <a:off x="7112160" y="1650960"/>
            <a:ext cx="4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24"/>
          <p:cNvSpPr/>
          <p:nvPr/>
        </p:nvSpPr>
        <p:spPr>
          <a:xfrm>
            <a:off x="1555920" y="254952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25"/>
          <p:cNvSpPr/>
          <p:nvPr/>
        </p:nvSpPr>
        <p:spPr>
          <a:xfrm>
            <a:off x="4336920" y="2549520"/>
            <a:ext cx="4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26"/>
          <p:cNvSpPr/>
          <p:nvPr/>
        </p:nvSpPr>
        <p:spPr>
          <a:xfrm>
            <a:off x="7128000" y="254952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文本框 2"/>
          <p:cNvSpPr/>
          <p:nvPr/>
        </p:nvSpPr>
        <p:spPr>
          <a:xfrm>
            <a:off x="339840" y="86040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题。（正确的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√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错误的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改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组合 5"/>
          <p:cNvGrpSpPr/>
          <p:nvPr/>
        </p:nvGrpSpPr>
        <p:grpSpPr>
          <a:xfrm>
            <a:off x="1514520" y="1992240"/>
            <a:ext cx="977760" cy="1191240"/>
            <a:chOff x="1514520" y="1992240"/>
            <a:chExt cx="977760" cy="1191240"/>
          </a:xfrm>
        </p:grpSpPr>
        <p:sp>
          <p:nvSpPr>
            <p:cNvPr id="1065" name="文本框 3"/>
            <p:cNvSpPr/>
            <p:nvPr/>
          </p:nvSpPr>
          <p:spPr>
            <a:xfrm>
              <a:off x="1514520" y="1992240"/>
              <a:ext cx="97776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2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直接连接符 4"/>
            <p:cNvSpPr/>
            <p:nvPr/>
          </p:nvSpPr>
          <p:spPr>
            <a:xfrm>
              <a:off x="1571400" y="2755080"/>
              <a:ext cx="85104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组合 6"/>
          <p:cNvGrpSpPr/>
          <p:nvPr/>
        </p:nvGrpSpPr>
        <p:grpSpPr>
          <a:xfrm>
            <a:off x="4438800" y="1976400"/>
            <a:ext cx="979200" cy="1191240"/>
            <a:chOff x="4438800" y="1976400"/>
            <a:chExt cx="979200" cy="1191240"/>
          </a:xfrm>
        </p:grpSpPr>
        <p:sp>
          <p:nvSpPr>
            <p:cNvPr id="1068" name="文本框 7"/>
            <p:cNvSpPr/>
            <p:nvPr/>
          </p:nvSpPr>
          <p:spPr>
            <a:xfrm>
              <a:off x="4438800" y="1976400"/>
              <a:ext cx="97920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3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直接连接符 8"/>
            <p:cNvSpPr/>
            <p:nvPr/>
          </p:nvSpPr>
          <p:spPr>
            <a:xfrm>
              <a:off x="4495680" y="2739240"/>
              <a:ext cx="85212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组合 9"/>
          <p:cNvGrpSpPr/>
          <p:nvPr/>
        </p:nvGrpSpPr>
        <p:grpSpPr>
          <a:xfrm>
            <a:off x="6647040" y="1959120"/>
            <a:ext cx="979200" cy="1191240"/>
            <a:chOff x="6647040" y="1959120"/>
            <a:chExt cx="979200" cy="1191240"/>
          </a:xfrm>
        </p:grpSpPr>
        <p:sp>
          <p:nvSpPr>
            <p:cNvPr id="1071" name="文本框 10"/>
            <p:cNvSpPr/>
            <p:nvPr/>
          </p:nvSpPr>
          <p:spPr>
            <a:xfrm>
              <a:off x="6647040" y="1959120"/>
              <a:ext cx="97920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2 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直接连接符 12"/>
            <p:cNvSpPr/>
            <p:nvPr/>
          </p:nvSpPr>
          <p:spPr>
            <a:xfrm>
              <a:off x="6703920" y="2721600"/>
              <a:ext cx="85212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组合 14"/>
          <p:cNvGrpSpPr/>
          <p:nvPr/>
        </p:nvGrpSpPr>
        <p:grpSpPr>
          <a:xfrm>
            <a:off x="1496880" y="4384800"/>
            <a:ext cx="979560" cy="1191240"/>
            <a:chOff x="1496880" y="4384800"/>
            <a:chExt cx="979560" cy="1191240"/>
          </a:xfrm>
        </p:grpSpPr>
        <p:sp>
          <p:nvSpPr>
            <p:cNvPr id="1074" name="文本框 15"/>
            <p:cNvSpPr/>
            <p:nvPr/>
          </p:nvSpPr>
          <p:spPr>
            <a:xfrm>
              <a:off x="1496880" y="4384800"/>
              <a:ext cx="97956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 2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直接连接符 16"/>
            <p:cNvSpPr/>
            <p:nvPr/>
          </p:nvSpPr>
          <p:spPr>
            <a:xfrm>
              <a:off x="1553760" y="5146560"/>
              <a:ext cx="8524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组合 17"/>
          <p:cNvGrpSpPr/>
          <p:nvPr/>
        </p:nvGrpSpPr>
        <p:grpSpPr>
          <a:xfrm>
            <a:off x="4464000" y="4384800"/>
            <a:ext cx="979560" cy="1191240"/>
            <a:chOff x="4464000" y="4384800"/>
            <a:chExt cx="979560" cy="1191240"/>
          </a:xfrm>
        </p:grpSpPr>
        <p:sp>
          <p:nvSpPr>
            <p:cNvPr id="1077" name="文本框 18"/>
            <p:cNvSpPr/>
            <p:nvPr/>
          </p:nvSpPr>
          <p:spPr>
            <a:xfrm>
              <a:off x="4464000" y="4384800"/>
              <a:ext cx="979560" cy="1191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+ 3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直接连接符 19"/>
            <p:cNvSpPr/>
            <p:nvPr/>
          </p:nvSpPr>
          <p:spPr>
            <a:xfrm>
              <a:off x="4520880" y="5146560"/>
              <a:ext cx="8524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9" name="Picture 12" descr="小马"/>
          <p:cNvPicPr/>
          <p:nvPr/>
        </p:nvPicPr>
        <p:blipFill>
          <a:blip r:embed="rId1"/>
          <a:stretch/>
        </p:blipFill>
        <p:spPr>
          <a:xfrm>
            <a:off x="3660840" y="1984320"/>
            <a:ext cx="915840" cy="10652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3" descr="小动物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456320" y="1990800"/>
            <a:ext cx="1116360" cy="12002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8" descr="小羊"/>
          <p:cNvPicPr/>
          <p:nvPr/>
        </p:nvPicPr>
        <p:blipFill>
          <a:blip r:embed="rId3"/>
          <a:stretch/>
        </p:blipFill>
        <p:spPr>
          <a:xfrm>
            <a:off x="523800" y="2073240"/>
            <a:ext cx="1100160" cy="901800"/>
          </a:xfrm>
          <a:prstGeom prst="rect">
            <a:avLst/>
          </a:prstGeom>
          <a:ln w="0">
            <a:noFill/>
          </a:ln>
        </p:spPr>
      </p:pic>
      <p:sp>
        <p:nvSpPr>
          <p:cNvPr id="1082" name="文本框 20"/>
          <p:cNvSpPr/>
          <p:nvPr/>
        </p:nvSpPr>
        <p:spPr>
          <a:xfrm>
            <a:off x="676440" y="3382920"/>
            <a:ext cx="82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）                      （     ）               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21"/>
          <p:cNvSpPr/>
          <p:nvPr/>
        </p:nvSpPr>
        <p:spPr>
          <a:xfrm>
            <a:off x="7016760" y="3363840"/>
            <a:ext cx="7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22"/>
          <p:cNvSpPr/>
          <p:nvPr/>
        </p:nvSpPr>
        <p:spPr>
          <a:xfrm>
            <a:off x="1774800" y="336564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23"/>
          <p:cNvSpPr/>
          <p:nvPr/>
        </p:nvSpPr>
        <p:spPr>
          <a:xfrm>
            <a:off x="4692600" y="335772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下箭头 24"/>
          <p:cNvSpPr/>
          <p:nvPr/>
        </p:nvSpPr>
        <p:spPr>
          <a:xfrm>
            <a:off x="1743120" y="3852720"/>
            <a:ext cx="57636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下箭头 25"/>
          <p:cNvSpPr/>
          <p:nvPr/>
        </p:nvSpPr>
        <p:spPr>
          <a:xfrm>
            <a:off x="4684680" y="3852720"/>
            <a:ext cx="57636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0" autoRev="1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5" dur="1000" autoRev="1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" dur="1000" autoRev="1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autoRev="1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1" dur="1000" autoRev="1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1000" autoRev="1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文本框 2"/>
          <p:cNvSpPr/>
          <p:nvPr/>
        </p:nvSpPr>
        <p:spPr>
          <a:xfrm>
            <a:off x="414360" y="912960"/>
            <a:ext cx="84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乐乐在计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一位数时，把这个一位数加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十位上去了，结果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你知道正确的结果应是多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3"/>
          <p:cNvSpPr/>
          <p:nvPr/>
        </p:nvSpPr>
        <p:spPr>
          <a:xfrm>
            <a:off x="1146240" y="1990800"/>
            <a:ext cx="55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-4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8+5=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正确的结果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8:06Z</dcterms:modified>
  <cp:revision>1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